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4F4A-8949-4523-B9A9-3B1405C5F8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5043-2284-4123-A074-3A2F76396D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F94-37FA-4D7D-97F3-31A4AEA9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6AD-3326-4BE3-87EB-78BE5732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6CF-0CFB-4BC8-ACEE-B0C91E1C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7AD-2FF1-4B80-A554-298EC8EA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BFC-61D1-4B89-80E6-BCA027CC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02F-8326-4FF4-AB34-0BB44151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FCF-A3B0-4DC5-A2C1-E9A28CC2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0CC-FA8E-41DD-B280-D30A7B33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047-2243-44D0-BC5A-5FAC0655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926-3B37-4DDF-8C10-C7227859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EB5-1E76-44B5-A5B0-92367799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42C-2EF6-4D9A-AC50-4E1B52C6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1C9E-956A-4658-919A-5638462576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正方形/長方形 38" descr=""/>
          <p:cNvPicPr/>
          <p:nvPr/>
        </p:nvPicPr>
        <p:blipFill>
          <a:blip r:embed="rId1"/>
          <a:stretch/>
        </p:blipFill>
        <p:spPr>
          <a:xfrm>
            <a:off x="201600" y="85680"/>
            <a:ext cx="8656560" cy="82872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8"/>
          <p:cNvSpPr/>
          <p:nvPr/>
        </p:nvSpPr>
        <p:spPr>
          <a:xfrm>
            <a:off x="200160" y="94140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友達に聞いてみたいことリストを作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1"/>
          <p:cNvGrpSpPr/>
          <p:nvPr/>
        </p:nvGrpSpPr>
        <p:grpSpPr>
          <a:xfrm>
            <a:off x="227160" y="6202440"/>
            <a:ext cx="8807400" cy="392040"/>
            <a:chOff x="227160" y="6202440"/>
            <a:chExt cx="8807400" cy="392040"/>
          </a:xfrm>
        </p:grpSpPr>
        <p:sp>
          <p:nvSpPr>
            <p:cNvPr id="51" name="正方形/長方形 10"/>
            <p:cNvSpPr/>
            <p:nvPr/>
          </p:nvSpPr>
          <p:spPr>
            <a:xfrm>
              <a:off x="227160" y="6202440"/>
              <a:ext cx="836136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グループ化 5"/>
            <p:cNvGrpSpPr/>
            <p:nvPr/>
          </p:nvGrpSpPr>
          <p:grpSpPr>
            <a:xfrm>
              <a:off x="227160" y="6203880"/>
              <a:ext cx="5870880" cy="108000"/>
              <a:chOff x="227160" y="6203880"/>
              <a:chExt cx="5870880" cy="108000"/>
            </a:xfrm>
          </p:grpSpPr>
          <p:sp>
            <p:nvSpPr>
              <p:cNvPr id="53" name="フリーフォーム 20"/>
              <p:cNvSpPr/>
              <p:nvPr/>
            </p:nvSpPr>
            <p:spPr>
              <a:xfrm>
                <a:off x="3151440" y="6221160"/>
                <a:ext cx="2946600" cy="907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フリーフォーム 18"/>
              <p:cNvSpPr/>
              <p:nvPr/>
            </p:nvSpPr>
            <p:spPr>
              <a:xfrm>
                <a:off x="227160" y="6203880"/>
                <a:ext cx="2928960" cy="10332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" name="フリーフォーム 14"/>
            <p:cNvSpPr/>
            <p:nvPr/>
          </p:nvSpPr>
          <p:spPr>
            <a:xfrm>
              <a:off x="6086520" y="620244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テキスト ボックス 2"/>
          <p:cNvSpPr/>
          <p:nvPr/>
        </p:nvSpPr>
        <p:spPr>
          <a:xfrm>
            <a:off x="2695680" y="242100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5"/>
          <p:cNvSpPr/>
          <p:nvPr/>
        </p:nvSpPr>
        <p:spPr>
          <a:xfrm>
            <a:off x="6372360" y="260496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rcRect l="0" t="9216" r="31404" b="38907"/>
          <a:stretch/>
        </p:blipFill>
        <p:spPr>
          <a:xfrm>
            <a:off x="293760" y="2033640"/>
            <a:ext cx="8740800" cy="4230720"/>
          </a:xfrm>
          <a:prstGeom prst="rect">
            <a:avLst/>
          </a:prstGeom>
          <a:ln w="0">
            <a:noFill/>
          </a:ln>
        </p:spPr>
      </p:pic>
      <p:sp>
        <p:nvSpPr>
          <p:cNvPr id="59" name="角丸四角形吹き出し 1"/>
          <p:cNvSpPr/>
          <p:nvPr/>
        </p:nvSpPr>
        <p:spPr>
          <a:xfrm>
            <a:off x="4140360" y="4221000"/>
            <a:ext cx="3024000" cy="1224000"/>
          </a:xfrm>
          <a:prstGeom prst="wedgeRoundRectCallout">
            <a:avLst>
              <a:gd name="adj1" fmla="val -12138"/>
              <a:gd name="adj2" fmla="val -12733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友達に聞いてみたいこ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rcRect l="0" t="9216" r="31404" b="47982"/>
          <a:stretch/>
        </p:blipFill>
        <p:spPr>
          <a:xfrm>
            <a:off x="270000" y="923760"/>
            <a:ext cx="8740800" cy="3490920"/>
          </a:xfrm>
          <a:prstGeom prst="rect">
            <a:avLst/>
          </a:prstGeom>
          <a:ln w="0">
            <a:noFill/>
          </a:ln>
        </p:spPr>
      </p:pic>
      <p:sp>
        <p:nvSpPr>
          <p:cNvPr id="61" name="正方形/長方形 8"/>
          <p:cNvSpPr/>
          <p:nvPr/>
        </p:nvSpPr>
        <p:spPr>
          <a:xfrm>
            <a:off x="200160" y="77760"/>
            <a:ext cx="8673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聞いたことのメモをとろ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グループ化 1"/>
          <p:cNvGrpSpPr/>
          <p:nvPr/>
        </p:nvGrpSpPr>
        <p:grpSpPr>
          <a:xfrm>
            <a:off x="297000" y="4325760"/>
            <a:ext cx="8807400" cy="390600"/>
            <a:chOff x="297000" y="4325760"/>
            <a:chExt cx="8807400" cy="390600"/>
          </a:xfrm>
        </p:grpSpPr>
        <p:sp>
          <p:nvSpPr>
            <p:cNvPr id="63" name="正方形/長方形 10"/>
            <p:cNvSpPr/>
            <p:nvPr/>
          </p:nvSpPr>
          <p:spPr>
            <a:xfrm>
              <a:off x="297000" y="4325760"/>
              <a:ext cx="8361360" cy="39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グループ化 5"/>
            <p:cNvGrpSpPr/>
            <p:nvPr/>
          </p:nvGrpSpPr>
          <p:grpSpPr>
            <a:xfrm>
              <a:off x="297000" y="4327200"/>
              <a:ext cx="5870880" cy="107280"/>
              <a:chOff x="297000" y="4327200"/>
              <a:chExt cx="5870880" cy="107280"/>
            </a:xfrm>
          </p:grpSpPr>
          <p:sp>
            <p:nvSpPr>
              <p:cNvPr id="65" name="フリーフォーム 20"/>
              <p:cNvSpPr/>
              <p:nvPr/>
            </p:nvSpPr>
            <p:spPr>
              <a:xfrm>
                <a:off x="3221280" y="4344480"/>
                <a:ext cx="2946600" cy="900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フリーフォーム 18"/>
              <p:cNvSpPr/>
              <p:nvPr/>
            </p:nvSpPr>
            <p:spPr>
              <a:xfrm>
                <a:off x="297000" y="4327200"/>
                <a:ext cx="2928960" cy="102600"/>
              </a:xfrm>
              <a:custGeom>
                <a:avLst/>
                <a:gdLst/>
                <a:ahLst/>
                <a:rect l="l" t="t" r="r" b="b"/>
                <a:pathLst>
                  <a:path w="8639175" h="723910">
                    <a:moveTo>
                      <a:pt x="0" y="704860"/>
                    </a:moveTo>
                    <a:cubicBezTo>
                      <a:pt x="245269" y="357197"/>
                      <a:pt x="490538" y="9535"/>
                      <a:pt x="733425" y="9535"/>
                    </a:cubicBezTo>
                    <a:cubicBezTo>
                      <a:pt x="976312" y="9535"/>
                      <a:pt x="1217613" y="706447"/>
                      <a:pt x="1457325" y="704860"/>
                    </a:cubicBezTo>
                    <a:cubicBezTo>
                      <a:pt x="1697037" y="703273"/>
                      <a:pt x="1930400" y="-1577"/>
                      <a:pt x="2171700" y="10"/>
                    </a:cubicBezTo>
                    <a:cubicBezTo>
                      <a:pt x="2413000" y="1597"/>
                      <a:pt x="2665413" y="709623"/>
                      <a:pt x="2905125" y="714385"/>
                    </a:cubicBezTo>
                    <a:cubicBezTo>
                      <a:pt x="3144838" y="719148"/>
                      <a:pt x="3370263" y="28585"/>
                      <a:pt x="3609975" y="28585"/>
                    </a:cubicBezTo>
                    <a:cubicBezTo>
                      <a:pt x="3849687" y="28585"/>
                      <a:pt x="4102100" y="719148"/>
                      <a:pt x="4343400" y="714385"/>
                    </a:cubicBezTo>
                    <a:cubicBezTo>
                      <a:pt x="4584700" y="709623"/>
                      <a:pt x="4822825" y="1597"/>
                      <a:pt x="5057775" y="10"/>
                    </a:cubicBezTo>
                    <a:cubicBezTo>
                      <a:pt x="5292725" y="-1578"/>
                      <a:pt x="5513388" y="701685"/>
                      <a:pt x="5753100" y="704860"/>
                    </a:cubicBezTo>
                    <a:cubicBezTo>
                      <a:pt x="5992812" y="708035"/>
                      <a:pt x="6253163" y="19060"/>
                      <a:pt x="6496050" y="19060"/>
                    </a:cubicBezTo>
                    <a:cubicBezTo>
                      <a:pt x="6738937" y="19060"/>
                      <a:pt x="6970713" y="708035"/>
                      <a:pt x="7210425" y="704860"/>
                    </a:cubicBezTo>
                    <a:cubicBezTo>
                      <a:pt x="7450137" y="701685"/>
                      <a:pt x="7696200" y="-3165"/>
                      <a:pt x="7934325" y="10"/>
                    </a:cubicBezTo>
                    <a:cubicBezTo>
                      <a:pt x="8172450" y="3185"/>
                      <a:pt x="8405812" y="363547"/>
                      <a:pt x="8639175" y="72391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" name="フリーフォーム 14"/>
            <p:cNvSpPr/>
            <p:nvPr/>
          </p:nvSpPr>
          <p:spPr>
            <a:xfrm>
              <a:off x="6156360" y="4325760"/>
              <a:ext cx="2948040" cy="102960"/>
            </a:xfrm>
            <a:custGeom>
              <a:avLst/>
              <a:gdLst/>
              <a:ahLst/>
              <a:rect l="l" t="t" r="r" b="b"/>
              <a:pathLst>
                <a:path w="8639175" h="723910">
                  <a:moveTo>
                    <a:pt x="0" y="704860"/>
                  </a:moveTo>
                  <a:cubicBezTo>
                    <a:pt x="245269" y="357197"/>
                    <a:pt x="490538" y="9535"/>
                    <a:pt x="733425" y="9535"/>
                  </a:cubicBezTo>
                  <a:cubicBezTo>
                    <a:pt x="976312" y="9535"/>
                    <a:pt x="1217613" y="706447"/>
                    <a:pt x="1457325" y="704860"/>
                  </a:cubicBezTo>
                  <a:cubicBezTo>
                    <a:pt x="1697037" y="703273"/>
                    <a:pt x="1930400" y="-1577"/>
                    <a:pt x="2171700" y="10"/>
                  </a:cubicBezTo>
                  <a:cubicBezTo>
                    <a:pt x="2413000" y="1597"/>
                    <a:pt x="2665413" y="709623"/>
                    <a:pt x="2905125" y="714385"/>
                  </a:cubicBezTo>
                  <a:cubicBezTo>
                    <a:pt x="3144838" y="719148"/>
                    <a:pt x="3370263" y="28585"/>
                    <a:pt x="3609975" y="28585"/>
                  </a:cubicBezTo>
                  <a:cubicBezTo>
                    <a:pt x="3849687" y="28585"/>
                    <a:pt x="4102100" y="719148"/>
                    <a:pt x="4343400" y="714385"/>
                  </a:cubicBezTo>
                  <a:cubicBezTo>
                    <a:pt x="4584700" y="709623"/>
                    <a:pt x="4822825" y="1597"/>
                    <a:pt x="5057775" y="10"/>
                  </a:cubicBezTo>
                  <a:cubicBezTo>
                    <a:pt x="5292725" y="-1578"/>
                    <a:pt x="5513388" y="701685"/>
                    <a:pt x="5753100" y="704860"/>
                  </a:cubicBezTo>
                  <a:cubicBezTo>
                    <a:pt x="5992812" y="708035"/>
                    <a:pt x="6253163" y="19060"/>
                    <a:pt x="6496050" y="19060"/>
                  </a:cubicBezTo>
                  <a:cubicBezTo>
                    <a:pt x="6738937" y="19060"/>
                    <a:pt x="6970713" y="708035"/>
                    <a:pt x="7210425" y="704860"/>
                  </a:cubicBezTo>
                  <a:cubicBezTo>
                    <a:pt x="7450137" y="701685"/>
                    <a:pt x="7696200" y="-3165"/>
                    <a:pt x="7934325" y="10"/>
                  </a:cubicBezTo>
                  <a:cubicBezTo>
                    <a:pt x="8172450" y="3185"/>
                    <a:pt x="8405812" y="363547"/>
                    <a:pt x="8639175" y="72391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2"/>
          <p:cNvSpPr/>
          <p:nvPr/>
        </p:nvSpPr>
        <p:spPr>
          <a:xfrm>
            <a:off x="2784600" y="132732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最近おもいっきりわらったのはいつ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25"/>
          <p:cNvSpPr/>
          <p:nvPr/>
        </p:nvSpPr>
        <p:spPr>
          <a:xfrm>
            <a:off x="6384960" y="152100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それはなぜ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6"/>
          <p:cNvSpPr/>
          <p:nvPr/>
        </p:nvSpPr>
        <p:spPr>
          <a:xfrm>
            <a:off x="303120" y="2914560"/>
            <a:ext cx="18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○○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さ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28"/>
          <p:cNvSpPr/>
          <p:nvPr/>
        </p:nvSpPr>
        <p:spPr>
          <a:xfrm>
            <a:off x="2465280" y="27306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先週の日曜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弟と話をし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9"/>
          <p:cNvSpPr/>
          <p:nvPr/>
        </p:nvSpPr>
        <p:spPr>
          <a:xfrm>
            <a:off x="6086520" y="2546280"/>
            <a:ext cx="292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動物のものま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おもしろかっ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・とくにチンパンジ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グループ化 13"/>
          <p:cNvGrpSpPr/>
          <p:nvPr/>
        </p:nvGrpSpPr>
        <p:grpSpPr>
          <a:xfrm>
            <a:off x="3209760" y="5076720"/>
            <a:ext cx="1708200" cy="1143000"/>
            <a:chOff x="3209760" y="5076720"/>
            <a:chExt cx="1708200" cy="1143000"/>
          </a:xfrm>
        </p:grpSpPr>
        <p:pic>
          <p:nvPicPr>
            <p:cNvPr id="74" name="Picture 3" descr="C:\Users\tqe74765\Desktop\088-08B.png"/>
            <p:cNvPicPr/>
            <p:nvPr/>
          </p:nvPicPr>
          <p:blipFill>
            <a:blip r:embed="rId2"/>
            <a:stretch/>
          </p:blipFill>
          <p:spPr>
            <a:xfrm>
              <a:off x="3209760" y="5076720"/>
              <a:ext cx="17082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3627000" y="5308200"/>
              <a:ext cx="106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Calibri"/>
                </a:rPr>
                <a:t>短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グループ化 11"/>
          <p:cNvGrpSpPr/>
          <p:nvPr/>
        </p:nvGrpSpPr>
        <p:grpSpPr>
          <a:xfrm>
            <a:off x="5022720" y="4430880"/>
            <a:ext cx="1795680" cy="1543320"/>
            <a:chOff x="5022720" y="4430880"/>
            <a:chExt cx="1795680" cy="1543320"/>
          </a:xfrm>
        </p:grpSpPr>
        <p:pic>
          <p:nvPicPr>
            <p:cNvPr id="77" name="Picture 3" descr="C:\Users\tqe74765\Desktop\088-08B.png"/>
            <p:cNvPicPr/>
            <p:nvPr/>
          </p:nvPicPr>
          <p:blipFill>
            <a:blip r:embed="rId3"/>
            <a:stretch/>
          </p:blipFill>
          <p:spPr>
            <a:xfrm>
              <a:off x="5022720" y="443088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テキスト ボックス 23"/>
            <p:cNvSpPr/>
            <p:nvPr/>
          </p:nvSpPr>
          <p:spPr>
            <a:xfrm>
              <a:off x="5162400" y="4600440"/>
              <a:ext cx="1656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かじょう　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Calibri"/>
                </a:rPr>
                <a:t>　　書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グループ化 9"/>
          <p:cNvGrpSpPr/>
          <p:nvPr/>
        </p:nvGrpSpPr>
        <p:grpSpPr>
          <a:xfrm>
            <a:off x="6862680" y="5078520"/>
            <a:ext cx="1795680" cy="1415880"/>
            <a:chOff x="6862680" y="5078520"/>
            <a:chExt cx="1795680" cy="1415880"/>
          </a:xfrm>
        </p:grpSpPr>
        <p:pic>
          <p:nvPicPr>
            <p:cNvPr id="80" name="Picture 3" descr="C:\Users\tqe74765\Desktop\088-08B.png"/>
            <p:cNvPicPr/>
            <p:nvPr/>
          </p:nvPicPr>
          <p:blipFill>
            <a:blip r:embed="rId4"/>
            <a:stretch/>
          </p:blipFill>
          <p:spPr>
            <a:xfrm>
              <a:off x="6862680" y="5078520"/>
              <a:ext cx="179568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テキスト ボックス 24"/>
            <p:cNvSpPr/>
            <p:nvPr/>
          </p:nvSpPr>
          <p:spPr>
            <a:xfrm>
              <a:off x="7148520" y="5276880"/>
              <a:ext cx="15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alibri"/>
                </a:rPr>
                <a:t>必要なものだ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"/>
          <p:cNvGrpSpPr/>
          <p:nvPr/>
        </p:nvGrpSpPr>
        <p:grpSpPr>
          <a:xfrm>
            <a:off x="97560" y="4246200"/>
            <a:ext cx="2869560" cy="1663200"/>
            <a:chOff x="97560" y="4246200"/>
            <a:chExt cx="2869560" cy="1663200"/>
          </a:xfrm>
        </p:grpSpPr>
        <p:sp>
          <p:nvSpPr>
            <p:cNvPr id="83" name="正方形/長方形 4"/>
            <p:cNvSpPr/>
            <p:nvPr/>
          </p:nvSpPr>
          <p:spPr>
            <a:xfrm>
              <a:off x="770040" y="4547880"/>
              <a:ext cx="1936800" cy="88740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テキスト ボックス 4"/>
            <p:cNvSpPr/>
            <p:nvPr/>
          </p:nvSpPr>
          <p:spPr>
            <a:xfrm>
              <a:off x="1025640" y="471348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" name="Picture 14" descr="Q:\036-037\PNG\036-06B.png"/>
            <p:cNvPicPr/>
            <p:nvPr/>
          </p:nvPicPr>
          <p:blipFill>
            <a:blip r:embed="rId5"/>
            <a:stretch/>
          </p:blipFill>
          <p:spPr>
            <a:xfrm rot="15569400">
              <a:off x="889560" y="3770280"/>
              <a:ext cx="1206360" cy="26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角丸四角形 1"/>
          <p:cNvSpPr/>
          <p:nvPr/>
        </p:nvSpPr>
        <p:spPr>
          <a:xfrm>
            <a:off x="2465280" y="2421000"/>
            <a:ext cx="6545520" cy="151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円/楕円 2"/>
          <p:cNvSpPr/>
          <p:nvPr/>
        </p:nvSpPr>
        <p:spPr>
          <a:xfrm>
            <a:off x="1370160" y="5276880"/>
            <a:ext cx="125064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聞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1"/>
          <p:cNvGrpSpPr/>
          <p:nvPr/>
        </p:nvGrpSpPr>
        <p:grpSpPr>
          <a:xfrm>
            <a:off x="47160" y="-65160"/>
            <a:ext cx="2869200" cy="1663560"/>
            <a:chOff x="47160" y="-65160"/>
            <a:chExt cx="2869200" cy="1663560"/>
          </a:xfrm>
        </p:grpSpPr>
        <p:sp>
          <p:nvSpPr>
            <p:cNvPr id="89" name="正方形/長方形 4"/>
            <p:cNvSpPr/>
            <p:nvPr/>
          </p:nvSpPr>
          <p:spPr>
            <a:xfrm>
              <a:off x="719280" y="236160"/>
              <a:ext cx="1936800" cy="887760"/>
            </a:xfrm>
            <a:custGeom>
              <a:avLst/>
              <a:gdLst/>
              <a:ahLst/>
              <a:rect l="l" t="t" r="r" b="b"/>
              <a:pathLst>
                <a:path w="2104227" h="849844">
                  <a:moveTo>
                    <a:pt x="32084" y="263256"/>
                  </a:moveTo>
                  <a:cubicBezTo>
                    <a:pt x="51220" y="140889"/>
                    <a:pt x="-43352" y="93888"/>
                    <a:pt x="114815" y="96894"/>
                  </a:cubicBezTo>
                  <a:cubicBezTo>
                    <a:pt x="272982" y="99900"/>
                    <a:pt x="642201" y="72066"/>
                    <a:pt x="965047" y="66161"/>
                  </a:cubicBezTo>
                  <a:lnTo>
                    <a:pt x="2051892" y="0"/>
                  </a:lnTo>
                  <a:cubicBezTo>
                    <a:pt x="2047884" y="37420"/>
                    <a:pt x="2108044" y="74840"/>
                    <a:pt x="2104036" y="112260"/>
                  </a:cubicBezTo>
                  <a:lnTo>
                    <a:pt x="2051892" y="849844"/>
                  </a:lnTo>
                  <a:cubicBezTo>
                    <a:pt x="1415555" y="844496"/>
                    <a:pt x="827345" y="791023"/>
                    <a:pt x="191008" y="785675"/>
                  </a:cubicBezTo>
                  <a:lnTo>
                    <a:pt x="0" y="769633"/>
                  </a:lnTo>
                  <a:lnTo>
                    <a:pt x="32084" y="263256"/>
                  </a:lnTo>
                  <a:close/>
                </a:path>
              </a:pathLst>
            </a:custGeom>
            <a:solidFill>
              <a:srgbClr val="2fc9ff">
                <a:alpha val="31000"/>
              </a:srgbClr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14" descr="Q:\036-037\PNG\036-06B.png"/>
            <p:cNvPicPr/>
            <p:nvPr/>
          </p:nvPicPr>
          <p:blipFill>
            <a:blip r:embed="rId1"/>
            <a:stretch/>
          </p:blipFill>
          <p:spPr>
            <a:xfrm rot="15569400">
              <a:off x="838800" y="-540360"/>
              <a:ext cx="12067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テキスト ボックス 4"/>
            <p:cNvSpPr/>
            <p:nvPr/>
          </p:nvSpPr>
          <p:spPr>
            <a:xfrm>
              <a:off x="974880" y="401760"/>
              <a:ext cx="19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ポイント</a:t>
              </a:r>
              <a:r>
                <a:rPr b="0" lang="en-US" sz="2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角丸四角形 5"/>
          <p:cNvSpPr/>
          <p:nvPr/>
        </p:nvSpPr>
        <p:spPr>
          <a:xfrm>
            <a:off x="2916360" y="361800"/>
            <a:ext cx="55432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  <a:ea typeface="メイリオ"/>
              </a:rPr>
              <a:t>インタビューをすると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47520" y="1268280"/>
            <a:ext cx="90964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順序よくたずね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相手の話を注意深く聞き，分からな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ときは，話の区切りで聞き返したり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　質問したりする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「聞き取れなかったのでもう一度お願いします」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今のはどういう意味ですか？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　　「それは，○○ということですか？」　な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大事なことはメモをとる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最後にていねいにお礼を言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円/楕円 15"/>
          <p:cNvSpPr/>
          <p:nvPr/>
        </p:nvSpPr>
        <p:spPr>
          <a:xfrm>
            <a:off x="7308720" y="811080"/>
            <a:ext cx="1393920" cy="914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話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3T05:34:57Z</dcterms:created>
  <dc:creator>京都市教育委員会</dc:creator>
  <dc:description/>
  <dc:language>en-US</dc:language>
  <cp:lastModifiedBy>京都市教育委員会</cp:lastModifiedBy>
  <dcterms:modified xsi:type="dcterms:W3CDTF">2020-03-09T04:11:16Z</dcterms:modified>
  <cp:revision>37</cp:revision>
  <dc:subject/>
  <dc:title>PowerPoint プレゼンテーション</dc:title>
</cp:coreProperties>
</file>